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7DB9-456E-448B-BC8D-DE244813F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994E-AD7D-4F11-9B09-0E0F8AE5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1A47-55C8-4960-BB2C-8B7447046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79B1-8DF9-4589-99D7-4E9B15B8B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72DE-D01E-4C09-8BD9-8480318A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8126-DE7E-48B7-924F-C277E5B5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D349-C270-40D1-94C8-7581B092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EFA6-F1BC-421E-ACE9-1826A966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9E13-F8F4-410F-AC72-4BD93449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C805-64EE-4C24-A50B-11AF5213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D715-0357-4F9F-A989-06779E55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9B03-F7D7-44EF-877A-23635E49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842C-4572-4A8A-8103-C2DF69547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Moon Shot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ght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17,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362320" y="228600"/>
            <a:ext cx="49719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133720" y="0"/>
            <a:ext cx="49147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2860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that you have seen all of these moon shots, create your own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ay work alone or with a partner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create with your ideas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paper provided to help with your ideas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your idea, tell the adult.  Then he/she will take your pi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17188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0968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171880" y="152280"/>
            <a:ext cx="48574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362320" y="0"/>
            <a:ext cx="50292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5:27:41Z</dcterms:created>
  <dc:creator>KPS</dc:creator>
  <dc:description/>
  <dc:language>en-US</dc:language>
  <cp:lastModifiedBy>KPS</cp:lastModifiedBy>
  <dcterms:modified xsi:type="dcterms:W3CDTF">2011-11-16T21:14:23Z</dcterms:modified>
  <cp:revision>3</cp:revision>
  <dc:subject/>
  <dc:title>Moon Shots</dc:title>
</cp:coreProperties>
</file>